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whoosh.wav" ContentType="audio/x-wav"/>
  <Override PartName="/ppt/media/image5.png" ContentType="image/png"/>
  <Override PartName="/ppt/media/image13.wmf" ContentType="image/x-wmf"/>
  <Override PartName="/ppt/media/image8.wmf" ContentType="image/x-wmf"/>
  <Override PartName="/ppt/media/image10.wmf" ContentType="image/x-wmf"/>
  <Override PartName="/ppt/media/type.wav" ContentType="audio/x-wav"/>
  <Override PartName="/ppt/media/image14.wmf" ContentType="image/x-wmf"/>
  <Override PartName="/ppt/media/image12.wmf" ContentType="image/x-wmf"/>
  <Override PartName="/ppt/media/carbrake.wav" ContentType="audio/x-wav"/>
  <Override PartName="/ppt/media/image1.png" ContentType="image/png"/>
  <Override PartName="/ppt/media/image2.jpeg" ContentType="image/jpeg"/>
  <Override PartName="/ppt/media/image6.wmf" ContentType="image/x-wmf"/>
  <Override PartName="/ppt/media/image3.png" ContentType="image/png"/>
  <Override PartName="/ppt/media/image11.wmf" ContentType="image/x-wmf"/>
  <Override PartName="/ppt/media/image4.gif" ContentType="image/gif"/>
  <Override PartName="/ppt/media/image7.png" ContentType="image/png"/>
  <Override PartName="/ppt/media/image15.wmf" ContentType="image/x-wmf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7CDE-65C6-4E3B-A427-4DA2284D5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: The story’s main ideas.  The “message” the writer intends to communicate by telling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: The story’s main ideas.  The “message” the writer intends to communicate by telling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: The position of the narrator of the story and what the writer sees from that vantag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: The position of the narrator of the story and what the writer sees from that vantag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s about a single event or exper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al (not tr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to 15,000 words in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beginning, middle, an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n impression on the r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lls about a single event or experi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ctional (not tr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00 to 15,000 words in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has a beginning, middle, and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 an impression on the r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ments of a Short S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 of 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:Tells the reader where and when the story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ting:Tells the reader where and when the story takes pl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: Creation of imaginary people who appear to be real to the reader.  The writer gives information about the characters in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zation: Creation of imaginary people who appear to be real to the reader.  The writer gives information about the characters in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: A series of events through which the writer reveals what is happening, to whom, and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ot: A series of events through which the writer reveals what is happening, to whom, and wh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: Is a problem in the story that needs to be re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flict: Is a problem in the story that needs to be resol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: When the action comes to its highest point of confl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max: When the action comes to its highest point of confli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: The story’s action after the climax until the end of the story. The “conclusion” of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rt Story Vocabul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olution: The story’s action after the climax until the end of the story. The “conclusion” of the s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3EC9-28F4-4104-B756-C722C25EB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4FAF-32F2-4E06-B14F-023616F56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F874-F312-4B33-97BE-E409B9EC9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6D09-BCD0-40F1-8F9B-86E83DB1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AE3F-3025-4943-B5E3-94E2DA6F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91BF-4370-4C38-AB4A-BC06ACD9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604F-E606-49C5-983E-50353CE69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745E-D6BB-43FB-9248-55076FA3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2ACA-0D48-4F92-8627-9176D26F3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39A7-95AD-4754-96F1-4EF76E40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EAF0-8F0D-4B0A-9F3D-F8A62914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4F9D-B0FF-4351-BB59-612CCEC4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A596-DE8A-4350-9E1A-3F46BE4A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15B5-E4FD-4C0A-8563-B8E01B16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770FA-04D7-4BE2-94B3-213D73C03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C9EC-5676-4ADD-8CF9-9D75E51BC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D43F9-B9DB-40DC-A0A1-A6E819793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77D5-3553-4CA9-94BE-8238FB3E5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9FF-5049-4184-929A-2AE49CF9D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18F6-D192-4E23-B6DA-D6A8D987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6664-94E3-445D-8EB2-4FD5CD25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E547-5142-4055-AE40-C32E5A803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2D5A-46F6-4FC7-BA20-1570640D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5D7CE-81D4-4909-B15C-DC7D19484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D48C-1109-47AE-B1E0-BEE107C30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6F00-7A52-498D-BE93-CFF0074E1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5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wmf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amera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amera.wav"/><Relationship Id="rId17" Type="http://schemas.openxmlformats.org/officeDocument/2006/relationships/audio" Target="../media/camera.wav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wm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1.wmf"/><Relationship Id="rId3" Type="http://schemas.openxmlformats.org/officeDocument/2006/relationships/audio" Target="../media/camera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2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3.wmf"/><Relationship Id="rId3" Type="http://schemas.openxmlformats.org/officeDocument/2006/relationships/audio" Target="../media/camera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me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’s main ideas.  The “message” the writer intends to communicate by telling the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7" descr="j0158031"/>
          <p:cNvPicPr/>
          <p:nvPr/>
        </p:nvPicPr>
        <p:blipFill>
          <a:blip r:embed="rId2"/>
          <a:stretch/>
        </p:blipFill>
        <p:spPr>
          <a:xfrm>
            <a:off x="4952880" y="2203560"/>
            <a:ext cx="3733920" cy="32130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7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oint of view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osition of the narrator of the story and what the writer sees from that vantage poi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9" descr="j0158055"/>
          <p:cNvPicPr/>
          <p:nvPr/>
        </p:nvPicPr>
        <p:blipFill>
          <a:blip r:embed="rId2"/>
          <a:stretch/>
        </p:blipFill>
        <p:spPr>
          <a:xfrm>
            <a:off x="4952880" y="2081160"/>
            <a:ext cx="3733920" cy="3456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ac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4" descr="pe01460_"/>
          <p:cNvPicPr/>
          <p:nvPr/>
        </p:nvPicPr>
        <p:blipFill>
          <a:blip r:embed="rId9"/>
          <a:stretch/>
        </p:blipFill>
        <p:spPr>
          <a:xfrm>
            <a:off x="5164200" y="1752480"/>
            <a:ext cx="330984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75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75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75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75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75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75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75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75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625760" y="27432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reat writers are able to use the elements of the short story with such precision that the reader is caught up in the action of the story.  This is a mark of a good story and our goal as a writ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WordArt 4"/>
          <p:cNvSpPr txBox="1"/>
          <p:nvPr/>
        </p:nvSpPr>
        <p:spPr>
          <a:xfrm>
            <a:off x="2666880" y="914400"/>
            <a:ext cx="44197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Comic Sans MS"/>
              </a:rPr>
              <a:t>Short Stor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Comic Sans MS"/>
              <a:ea typeface="Comic Sans MS"/>
            </a:endParaRPr>
          </a:p>
        </p:txBody>
      </p:sp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Definition of a Short Sto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ells about a single event or experienc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ctional (not tru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00 to 15,000 words in leng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t has a beginning, middle, and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es an impression on the r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143000" y="1828800"/>
            <a:ext cx="3352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1" descr="ag00428_"/>
          <p:cNvPicPr/>
          <p:nvPr/>
        </p:nvPicPr>
        <p:blipFill>
          <a:blip r:embed="rId6"/>
          <a:stretch/>
        </p:blipFill>
        <p:spPr>
          <a:xfrm>
            <a:off x="4952880" y="2327400"/>
            <a:ext cx="3733920" cy="2963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Comic Sans MS"/>
              </a:rPr>
              <a:t>Elements of a Short Stor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racter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m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lu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 of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pe01460_"/>
          <p:cNvPicPr/>
          <p:nvPr/>
        </p:nvPicPr>
        <p:blipFill>
          <a:blip r:embed="rId9"/>
          <a:stretch/>
        </p:blipFill>
        <p:spPr>
          <a:xfrm>
            <a:off x="5164200" y="1752480"/>
            <a:ext cx="3309840" cy="411480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2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2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7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2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tt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Tells the reader where and when the story takes pla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5" descr="na01062_"/>
          <p:cNvPicPr/>
          <p:nvPr/>
        </p:nvPicPr>
        <p:blipFill>
          <a:blip r:embed="rId2"/>
          <a:stretch/>
        </p:blipFill>
        <p:spPr>
          <a:xfrm>
            <a:off x="4952880" y="2144880"/>
            <a:ext cx="3733920" cy="33289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haracterization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eation of imaginary people who appear to be real to the reader.  The writer gives information about the characters in the stor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029" descr="pe01832_"/>
          <p:cNvPicPr/>
          <p:nvPr/>
        </p:nvPicPr>
        <p:blipFill>
          <a:blip r:embed="rId2"/>
          <a:stretch/>
        </p:blipFill>
        <p:spPr>
          <a:xfrm>
            <a:off x="4952880" y="2103480"/>
            <a:ext cx="3733920" cy="34113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Plot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eries of events through which the writer reveals what is happening, to whom, and w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pe02097_"/>
          <p:cNvPicPr/>
          <p:nvPr/>
        </p:nvPicPr>
        <p:blipFill>
          <a:blip r:embed="rId2"/>
          <a:stretch/>
        </p:blipFill>
        <p:spPr>
          <a:xfrm>
            <a:off x="4952880" y="2314440"/>
            <a:ext cx="3733920" cy="2989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flict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a problem in the story that needs to be resolv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5" descr="bd06990_"/>
          <p:cNvPicPr/>
          <p:nvPr/>
        </p:nvPicPr>
        <p:blipFill>
          <a:blip r:embed="rId2"/>
          <a:stretch/>
        </p:blipFill>
        <p:spPr>
          <a:xfrm>
            <a:off x="4952880" y="2224080"/>
            <a:ext cx="3733920" cy="31701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2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max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the action comes to its highest point of confli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5" descr="pe01496_"/>
          <p:cNvPicPr/>
          <p:nvPr/>
        </p:nvPicPr>
        <p:blipFill>
          <a:blip r:embed="rId2"/>
          <a:stretch/>
        </p:blipFill>
        <p:spPr>
          <a:xfrm>
            <a:off x="5086440" y="1752480"/>
            <a:ext cx="3467160" cy="41148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Comic Sans MS"/>
              </a:rPr>
              <a:t>Short Story Vocabulary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3733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esolution: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’s action after the climax until the end of the story. The “conclusion” of the s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5" descr="pe01476_"/>
          <p:cNvPicPr/>
          <p:nvPr/>
        </p:nvPicPr>
        <p:blipFill>
          <a:blip r:embed="rId2"/>
          <a:stretch/>
        </p:blipFill>
        <p:spPr>
          <a:xfrm>
            <a:off x="4984920" y="1752480"/>
            <a:ext cx="3668400" cy="41148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7:17:08Z</dcterms:created>
  <dc:creator>Jerald and Mary Ellington</dc:creator>
  <dc:description/>
  <dc:language>en-US</dc:language>
  <cp:lastModifiedBy>RomaK</cp:lastModifiedBy>
  <dcterms:modified xsi:type="dcterms:W3CDTF">2015-09-02T09:43:49Z</dcterms:modified>
  <cp:revision>10</cp:revision>
  <dc:subject/>
  <dc:title>how to write a short story</dc:title>
</cp:coreProperties>
</file>